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73152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409400" y="720360"/>
            <a:ext cx="449748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F6A81-35FE-488F-AEDD-0C5FCD9A8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FF850-075E-4E95-BFE9-0918DB454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9096A-7AFB-454A-9199-B31329C1B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44457-01D5-4603-B8F6-6DD9E6866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516D6-0441-4F3F-8A5D-8C759516F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gram is  available through the Opportunities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83A9F-8C22-4474-B708-FCE58BA31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progr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lass busines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mentoring and support from a business counsel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epreneurial support during the business plan writ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umber of wee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program varies by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16040" y="4564080"/>
            <a:ext cx="5851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51D75-B758-438E-A110-9A8F38068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basic client eligibility only, a vpi Career Specialist can discuss eligibility requirements in greater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0FEF2-7366-4956-BD0C-4872C6F12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ient would not be eligible for the OSEB program if participated in any Self Employment training program (i.e. provincial or other) within the last 24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70682-8F5E-4EBA-8A63-60D4FD276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work experience to unemployed job seekers within projects that benefit the community or local econom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their participation, participants in the program will have recent work experience and additional skills to add to their résumés, increasing their chances of successfully finding long-term employ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JCP ends if individual secures full time employment with existing JCP sponsor or with an external emplo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E1726-3E72-4B55-B599-6E3CF807F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 for a newcomer to Canada that needs their first Canadian experience in the workplace or Canadians that want to change or start a new job in a career they have no previous job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E8E4F-B36F-42E1-A798-2903B456D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A624F-B89D-4F97-8AAE-45841CA0F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ing of work experience fields.  This program offers 8-12 weeks of unpaid work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87C2A-0762-4B54-BD1F-AC45261B6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AAB3D-C92B-452E-B1D0-281D1DA96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of tra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Bricklayer, Civil Engineering Technician, Roofer, Painter, Crane Operator, Scaf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ustrial/Manufactu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achinists, Tool and Die Makers, Instrument Makers, Mold Makers and Pattern Makers build precise, complex tools and parts for the aerospace, medical, defense, automotive, construction and consumer product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e P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Motive Power Technician – Trade Related to Automotive, Heavy Duty Mechanic, Truck and Coach Technic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airstylists/Barbers/Cosmetologists and Cooks/Chefs), Public Safety Officers (firefighters and correctional officers), and Funeral Directo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out more about these trades go to 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www.tcu.gov.on.ca/eng/employmentontario/training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75BA2-53D0-412F-8436-A4A02EBF6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9BB6B-002E-40DC-9EF6-A9A0BBD2C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6AD73-CCCD-4D95-B98D-1DF4D528D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5A44C-DE14-41DD-B8F2-8680C2E46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6DE73-3DBF-4CDC-A62B-84EEB84A1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FDAF6-83BB-4EB6-98B9-5791DBA63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F2895-BAAA-43DB-9942-17AF40EA3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isual of vpi Employment Services, highlighting the various client pathways and services leading to employ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D44EB-7214-45FC-A471-4FF954FAF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9CAA7-9B70-4F91-9A39-929F8511D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8F8FD-E075-40FA-93A5-5BBD0311F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se sessions are intended to assist individuals with exploring career options as well as maximizing job search and job retention succe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eedback sessions are available for:  resume and interview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scriptions and calendar available at reception / Steps To Success s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FC1FD-E855-4C09-B508-07F2344C4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F7A-5317-4F78-8B49-44B0E49F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FD3-A5D2-49DF-B7C6-1C90AB94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1CB-A5E4-4A9D-9A00-C442F1BF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E40-E06F-4CE0-9DD4-E44CE34D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6F34-4AD9-46BE-BEAC-AF38E006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21CE-1688-4F83-B1CB-78C82B98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79FB-37DD-425B-962A-BCA5CE6A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7575-7AA6-49E2-81E5-7C428D91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D3F9-8423-414D-AEB9-CF7AFC82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3F7D-542E-4BDB-87BB-D4FF5314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88C3-2383-4344-A8D2-305B5F19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F2D-A3C3-4C88-9434-BE76C74D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C852-CA2C-4975-924A-F8F3C1C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D695-2C6E-4C07-9860-B640068F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1148-8CEA-4FCF-A917-DA098435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2639-14F9-49F7-82FA-4CDF44A4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2BED-C750-4980-8590-E625DDFF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3D8-C67D-4BF7-A8AD-13ECAF1F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9C0-5E8A-4D3C-95F2-8413621F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063-C7CE-420B-BCB4-453C1E6F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19A-20F0-44AD-8B1E-61C69857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5C1-7765-4EDE-B0C0-6242C3B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7A5-D9CB-49B8-9C1B-E1D3092C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602-4111-42BE-A4B0-60238CEE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F5B0-F292-4713-B21C-6B2579288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EW LOGO 2005"/>
          <p:cNvPicPr/>
          <p:nvPr/>
        </p:nvPicPr>
        <p:blipFill>
          <a:blip r:embed="rId3">
            <a:lum bright="48000"/>
          </a:blip>
          <a:srcRect l="2499" t="0" r="0" b="17502"/>
          <a:stretch/>
        </p:blipFill>
        <p:spPr>
          <a:xfrm>
            <a:off x="1600200" y="2031840"/>
            <a:ext cx="5943600" cy="268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A876-498E-488E-AD04-8852D1CCB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3"/>
          <p:cNvSpPr/>
          <p:nvPr/>
        </p:nvSpPr>
        <p:spPr>
          <a:xfrm>
            <a:off x="2133720" y="15238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LCOME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838080" y="2819520"/>
            <a:ext cx="69343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 A Presentation on </a:t>
            </a:r>
            <a:r>
              <a:rPr b="1" i="1" lang="en-US" sz="4800" spc="-1" strike="noStrike">
                <a:solidFill>
                  <a:srgbClr val="003399"/>
                </a:solidFill>
                <a:latin typeface="Eras Demi ITC"/>
              </a:rPr>
              <a:t>vpi</a:t>
            </a:r>
            <a:r>
              <a:rPr b="1" i="1" lang="en-US" sz="4800" spc="-1" strike="noStrike">
                <a:solidFill>
                  <a:srgbClr val="000000"/>
                </a:solidFill>
                <a:latin typeface="Eras Demi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mployme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ed /Underemployed persons not in full-time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ble to secure work independently due to multiple employment barr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ly entitled to work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Career – 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038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 of Second Career is to support laid off, unemployed individuals who require skills training to assist them to find employment in occupations with demonstr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ur market prosp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Ontar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Red-Tag"/>
          <p:cNvPicPr/>
          <p:nvPr/>
        </p:nvPicPr>
        <p:blipFill>
          <a:blip r:embed="rId1"/>
          <a:stretch/>
        </p:blipFill>
        <p:spPr>
          <a:xfrm>
            <a:off x="5562720" y="2819520"/>
            <a:ext cx="276228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lls Enhancement Programmes for Persons with Dis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assist with the application process to obtain funding for upgrading from  Employment Ontario &amp; The Opportunities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Un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Legally entitled to work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urrent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EI / reach-back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dentify as having a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8001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tario Self-Employment Benefit – 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entrepreneurial skills development support to approved participants to help them develop and implement their business plan and become self emplo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articipants to concentrate on building a sustainable business by providing them with financial assistance while they receive business advice and sup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773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ility for the Ontario Self Employment Benefit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Basic Client Eli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active claim with Employment Insurance (E.I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n active claim that ended in the past 36 months (3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 Maternity or Parental claim that began within the past 60 months (5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Eligi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have a viable business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the business support and t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posses the skills and relevant qualifications (if any) necessary to carry out their business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not have previously owned and operated a successful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Creation Partn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vides an opportunity for individuals who want to develop their skills, gain work experience, build their résumé, and create networking conn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last up to 52 wee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ends if employment is secu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gibl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for EI Benefits or qualify for Reachback stat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ed after real businesses to provide unemployed individuals with “hands on” experience in their field in which they have experience and/or training while looking for employ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5438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ed or under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years of age or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active claim with Employment Insurance (E.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n active claim that ended in the past 36 months (3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work in real departments of a simulated business &amp; gain valuable work experience in area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2"/>
          <p:cNvSpPr/>
          <p:nvPr/>
        </p:nvSpPr>
        <p:spPr>
          <a:xfrm>
            <a:off x="838080" y="3429000"/>
            <a:ext cx="3962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v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3"/>
          <p:cNvSpPr/>
          <p:nvPr/>
        </p:nvSpPr>
        <p:spPr>
          <a:xfrm>
            <a:off x="441972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/S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our Prese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ril Graing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eer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ul Burn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eer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n Apprenticeshi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4038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enticeship is the entry point and the path to a rewarding career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killed tr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s hands-on training learned in the workpl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involves classroom based instruction at a post-secondary in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apprentice"/>
          <p:cNvPicPr/>
          <p:nvPr/>
        </p:nvPicPr>
        <p:blipFill>
          <a:blip r:embed="rId1"/>
          <a:stretch/>
        </p:blipFill>
        <p:spPr>
          <a:xfrm>
            <a:off x="4981680" y="2128680"/>
            <a:ext cx="337176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entice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ario has apprenticeship programs for more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 trad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occupation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secto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/manufact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e 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Apprenticeship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programs will support potential entrants to the apprenticeship system who require job readiness skills and trade readiness experience to gain employment as Apprent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oyment Resource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faxing, photocopying, local phone calls and computers with high speed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resources are available to assist you with your job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source Specialist is always available for assistance in the C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al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deal candidate for </a:t>
            </a:r>
            <a:r>
              <a:rPr b="0" i="1" lang="en-US" sz="26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ichmond Hill employment services is someo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o is unemployed (under 20 hours/w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a FT stu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on EI Parental or Sick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registered at another Employment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S services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0 SINS require a work per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 Permit must have no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TCU Progra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vention Refugees require a letter of de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a Refer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referrals to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ichmond Hill go through our 1-888-882-9550 Call Centre and then are transferred directly to our office in Richmond Hill where they are booked directly into our Steps To Success information s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s can call on their own behalf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organization can make the call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ller should say where they heard 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here to help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ask that you call us at anytime if you have questions or require additional information at 905-882-956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1" descr="MP900448494[1]"/>
          <p:cNvPicPr/>
          <p:nvPr/>
        </p:nvPicPr>
        <p:blipFill>
          <a:blip r:embed="rId1"/>
          <a:stretch/>
        </p:blipFill>
        <p:spPr>
          <a:xfrm>
            <a:off x="2286000" y="4191120"/>
            <a:ext cx="365760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Las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7848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Asking Us To Present Our Services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vp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606e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provided employment services to eligible Canadian residents since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ployment Services are funded by the Ministry of Training Colleges and Universities (MTCU) / Employment 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st to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job-map-diagram"/>
          <p:cNvPicPr/>
          <p:nvPr/>
        </p:nvPicPr>
        <p:blipFill>
          <a:blip r:embed="rId1"/>
          <a:stretch/>
        </p:blipFill>
        <p:spPr>
          <a:xfrm>
            <a:off x="-228600" y="-54000"/>
            <a:ext cx="9372600" cy="73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731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gibility Cri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Unique Programs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deal 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r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nique Service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ssist individuals who are looking for work by assessing their employment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elp them connect with appropriate </a:t>
            </a:r>
            <a:r>
              <a:rPr b="1" i="1" lang="en-CA" sz="32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CA" sz="3200" spc="-1" strike="noStrike">
                <a:solidFill>
                  <a:srgbClr val="0606e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rvices &amp; programs, and Ministry-sponsor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 ongoing support until sustainable employment is se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3000" y="1706400"/>
            <a:ext cx="7238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hough not really a service,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ssist referrals with first-language support to get them off to a great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though we prefer our referrals to be strong in their English skill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vel 5 CLB minim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have Mandarin &amp; Cantonese speaking staff in the Richmond Hill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 also have a diverse base of other languages to draw from if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483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Unique Languag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que Job Readiness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06400"/>
            <a:ext cx="396252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dden Job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m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me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plac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ing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Winning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ing The Labou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2880" y="1787040"/>
            <a:ext cx="3657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the Canadian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to match individual’s skills and interests with employment opportunities and employers’ needs in the local labour mar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ments can include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apprenticeship training; work trials (for determining employability) and work experience opportun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tional assistance is available through placement monitoring, support and follow 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age incentives may be available to employer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4:21:47Z</dcterms:created>
  <dc:creator>paul burns</dc:creator>
  <dc:description/>
  <dc:language>en-US</dc:language>
  <cp:lastModifiedBy>aholmes</cp:lastModifiedBy>
  <dcterms:modified xsi:type="dcterms:W3CDTF">2011-07-08T18:56:11Z</dcterms:modified>
  <cp:revision>31</cp:revision>
  <dc:subject/>
  <dc:title>Slide 1</dc:title>
</cp:coreProperties>
</file>